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0410"/>
        <c:axId val="57368173"/>
      </c:barChart>
      <c:catAx>
        <c:axId val="9140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68173"/>
        <c:crosses val="autoZero"/>
        <c:auto val="1"/>
        <c:lblAlgn val="ctr"/>
        <c:lblOffset val="100"/>
        <c:noMultiLvlLbl val="0"/>
      </c:catAx>
      <c:valAx>
        <c:axId val="57368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0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6D0-95C6-49C2-A977-51EC1D5B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FF7-75CC-41C0-A16C-8B69796B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4F3-A6BD-4E8A-AC16-CA1C96CF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ED3-705D-4E0E-9CEA-9D54CCEB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779-5F7F-4448-94AD-BAD321FB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B21-4575-47B2-A68C-7DCA26E9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52B-3E4F-48C2-A6E2-319DEA47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672-9E52-4124-909B-13E45B43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416-17B3-4C76-A31D-98A6D8CF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1C0-45DF-4E49-9FCD-10736B85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AE2-6ED4-4CB4-AFBB-8364A3E1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BA6-BD18-4CFB-9DF9-732161A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BAB94-F35C-4992-8BF7-B1231B306A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