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81612"/>
        <c:axId val="26406958"/>
      </c:barChart>
      <c:catAx>
        <c:axId val="25781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06958"/>
        <c:crosses val="autoZero"/>
        <c:auto val="1"/>
        <c:lblAlgn val="ctr"/>
        <c:lblOffset val="100"/>
        <c:noMultiLvlLbl val="0"/>
      </c:catAx>
      <c:valAx>
        <c:axId val="26406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81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D7E-C840-4532-B74D-8C8F341B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C2F-FD65-4AD2-8237-4CDFF8D7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4B0-D2F2-4549-956F-8B2CC410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B17-4A12-482D-BB5A-67C60449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1D0-3480-45FD-8F8C-A024AC3B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EC6-9D34-40DB-A58D-83FED59B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A67-1F8E-45F1-A5DF-26612BCA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237-4702-45F2-8074-305A33F3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2F1-CB1C-401B-B389-BAA30E87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242-8883-4CC2-9A47-DC379231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AE2-6310-430A-AE0D-325C00A3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26C-53E3-4FAB-8220-6E7A4D58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DC98-E825-4886-B3B0-67725390E8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