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834093"/>
        <c:axId val="7886898"/>
      </c:barChart>
      <c:catAx>
        <c:axId val="768340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6898"/>
        <c:crosses val="autoZero"/>
        <c:auto val="1"/>
        <c:lblAlgn val="ctr"/>
        <c:lblOffset val="100"/>
        <c:noMultiLvlLbl val="0"/>
      </c:catAx>
      <c:valAx>
        <c:axId val="78868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340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565C-05E0-494F-BA1A-BFAF6484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9A57-1F45-46B2-8657-E90361BA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D993-C701-48D3-A44E-5BDBAA8A1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84B8-A8D8-443A-A0FB-2397F50D7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7A67-BDA2-4E02-B9A5-F178C1A5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432A-275B-41B8-9652-F8317A1E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E502-FF94-4DE5-80D8-B7C71BF3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C45D-0358-4B6F-9CC8-2A95FA89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19C5-F51C-455A-A5BA-6C7A5A51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F7EC-0658-45CE-8326-B4062419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781F-09F5-47FE-A8B3-3F665CC0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3ADC-7126-48DC-A76E-A1EF4B80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2CF43-538A-4BAF-9538-2DFD99B830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