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99036"/>
        <c:axId val="72042977"/>
      </c:barChart>
      <c:catAx>
        <c:axId val="78299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42977"/>
        <c:crosses val="autoZero"/>
        <c:auto val="1"/>
        <c:lblAlgn val="ctr"/>
        <c:lblOffset val="100"/>
        <c:noMultiLvlLbl val="0"/>
      </c:catAx>
      <c:valAx>
        <c:axId val="72042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99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B0B-80AE-4914-ACEB-D6DB65A1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019-8F87-44CD-B431-87381B17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EA6-7776-42EA-91E2-32F9FB75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793-3BBA-4A97-BCAC-ED383CCB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2CF-E1B3-4642-905C-28AB344D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D0B-5569-43B3-B156-68B2A010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1DE-B976-46F4-AB47-17E69551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191-4917-4157-AFD6-54131B23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C3B-8941-4CDC-AB1B-7323070F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F06-2C7E-4F9E-8DC3-C5AE6152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7BB-BC86-4173-B52E-DFB4EDDA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324-C7D3-49BB-AAE4-12ABEC3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7C8EE-CF8E-4A1C-A5DE-17AF83A5CA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