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56002"/>
        <c:axId val="45675440"/>
      </c:barChart>
      <c:catAx>
        <c:axId val="45456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75440"/>
        <c:crosses val="autoZero"/>
        <c:auto val="1"/>
        <c:lblAlgn val="ctr"/>
        <c:lblOffset val="100"/>
        <c:noMultiLvlLbl val="0"/>
      </c:catAx>
      <c:valAx>
        <c:axId val="45675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56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46B-7AC6-453F-87F5-61204CF7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E23-E2EC-4067-B80A-D59E254D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E0E-DE35-4857-B103-F4037B89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00C-28D0-4118-93FB-63B3F6F6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2A9-C5B0-4DF1-9FCA-D3147546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0BCB-61FF-483B-A442-EAF88ECD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BFE-8D44-4AA4-93A7-AFD5DBB1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6C13-1E9D-4894-8334-51B31EC6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977-6CDF-4E1D-B0C8-8C99DB86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972-050E-46B9-9E87-D86CB9FE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09E-7E82-4E50-A8DC-B7C95CAF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2CA0-51BD-4E88-B5D5-298B02C6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7FEEB-5CB4-4577-8802-F78C2E3C27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