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76615"/>
        <c:axId val="93273068"/>
      </c:barChart>
      <c:catAx>
        <c:axId val="24376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73068"/>
        <c:crosses val="autoZero"/>
        <c:auto val="1"/>
        <c:lblAlgn val="ctr"/>
        <c:lblOffset val="100"/>
        <c:noMultiLvlLbl val="0"/>
      </c:catAx>
      <c:valAx>
        <c:axId val="93273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76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26B-ADE3-464A-9B29-FF5A623E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942-3047-42CA-B6AF-D977406F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3F92-D497-48BD-A2E5-755D3973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E5D-410F-4FB4-B59B-993DED5D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14E-9D35-4C59-92F9-E2F0FA49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E2B2-23C9-49BC-AA88-26FB220A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B8C-C7CA-4011-9F71-FD01E873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892-12FB-4066-8CBC-28D221A6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0608-A512-4556-ADED-3383918A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25C-0E19-4E86-8702-72B961DD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FD0-C119-4439-9BC7-E7817464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631-3241-4B78-B1F0-637CBDB7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61130-073F-4EB8-BFF6-AFBCABC1B4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