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88801"/>
        <c:axId val="20370051"/>
      </c:barChart>
      <c:catAx>
        <c:axId val="441888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70051"/>
        <c:crosses val="autoZero"/>
        <c:auto val="1"/>
        <c:lblAlgn val="ctr"/>
        <c:lblOffset val="100"/>
        <c:noMultiLvlLbl val="0"/>
      </c:catAx>
      <c:valAx>
        <c:axId val="20370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888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D45-BEF8-4DDC-BFC0-0B3F204A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42B-A241-4AF9-8C74-5D1E4DAA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BEC4-889C-4600-8E07-1A07FA4A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0501-9F9E-4389-B58C-09C7ACDB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099-5541-48DC-960E-34ECE513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8E9-A706-46CA-9E2B-04C3CCA3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F285-D6AE-4CB4-9474-54906412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F7D-6976-4A59-A062-FADE415C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E15-15A0-4D0C-A489-47AA9EA1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D51A-EB3C-4398-AAE4-2F232F3C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3024-F086-4A21-BAFA-077BA79A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888-EAC7-48E8-8AD1-3D799E3B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3144A-8BD0-4989-A8E6-8723B88674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