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95158"/>
        <c:axId val="35430577"/>
      </c:barChart>
      <c:catAx>
        <c:axId val="97095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30577"/>
        <c:crosses val="autoZero"/>
        <c:auto val="1"/>
        <c:lblAlgn val="ctr"/>
        <c:lblOffset val="100"/>
        <c:noMultiLvlLbl val="0"/>
      </c:catAx>
      <c:valAx>
        <c:axId val="35430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95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E5D-1E39-4CF2-818F-35080D86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5B3-0F42-4A4F-AA04-4FAE6059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286-D9C4-4C2B-B346-3778289C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087-0AA6-4037-BE80-BCADCD5A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CBE-3280-4AAC-B64F-42866F2B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637-36FF-40F9-ADD3-3354CA45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E76-4295-43A0-A021-9D26555C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150-1E5E-4E0D-9214-268E7E20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A3E-B5AF-41C8-8CD3-0060B113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5FE-EF82-444F-8AD0-97D96AA5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E5B-4C80-40D1-AB74-358E1CAE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855-0E65-497C-9B94-A9CE3D1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D85BB-FE0A-4C08-B138-F4CA38BD6D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