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366260"/>
        <c:axId val="27117859"/>
      </c:barChart>
      <c:catAx>
        <c:axId val="583662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117859"/>
        <c:crosses val="autoZero"/>
        <c:auto val="1"/>
        <c:lblAlgn val="ctr"/>
        <c:lblOffset val="100"/>
        <c:noMultiLvlLbl val="0"/>
      </c:catAx>
      <c:valAx>
        <c:axId val="271178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3662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0FA9-CF26-4BD3-A8F6-FF6C7B7A1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04DB-494B-4B08-9988-A00A346C0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FA7F-A432-42F8-B149-4637520B2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0AC0-D04F-4B49-823C-3C757175A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320B-8A6D-47AC-AF18-D9D01AF73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C873-4D65-44A0-B50C-07487BF9E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D1C1-E69C-4B95-898F-7178D314E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9042-A66B-4873-BAB0-17BDDC95A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CD90-400D-437E-ABB6-740A1BBC0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71CF-6132-4794-83BF-BDB62C5EA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4EAF-2537-4E6C-8C24-53BA204BC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98F5-8A5D-4919-A26F-1271F980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E5A5C8-6EE2-461C-836B-CF3C088A18D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