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67444"/>
        <c:axId val="29513763"/>
      </c:barChart>
      <c:catAx>
        <c:axId val="83867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13763"/>
        <c:crosses val="autoZero"/>
        <c:auto val="1"/>
        <c:lblAlgn val="ctr"/>
        <c:lblOffset val="100"/>
        <c:noMultiLvlLbl val="0"/>
      </c:catAx>
      <c:valAx>
        <c:axId val="29513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67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47A-E61B-468B-87BA-23D30BD7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8A6-2B2E-4D1B-B136-7456B46C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D4A-18C0-4B5F-9309-0FC74BED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922-3B76-4865-9788-920C7454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2A1-C53A-47C6-934E-4CB180E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DE3-D270-4FDD-911E-48404C5D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7D9-4A49-4BD7-8FD1-40E3B5B2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56D-93FF-4C2B-AAE4-68E28B0B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F9D-FAED-4A07-A7CE-66A154D6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DDE-99B0-4BC0-9156-DD7C25D3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4AB-9BC9-47DA-B186-A21D756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95F-72A2-41E2-8C50-0C8BB51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16DDB-CE50-49CB-9BBD-6974AB7E55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