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15737"/>
        <c:axId val="8896689"/>
      </c:barChart>
      <c:catAx>
        <c:axId val="28715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6689"/>
        <c:crosses val="autoZero"/>
        <c:auto val="1"/>
        <c:lblAlgn val="ctr"/>
        <c:lblOffset val="100"/>
        <c:noMultiLvlLbl val="0"/>
      </c:catAx>
      <c:valAx>
        <c:axId val="8896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15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3A2-43AF-4C08-9B2F-50B44920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A4B-20BE-413F-A7E8-4953D497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B26-7E51-41D2-8F72-D05C87B8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A85-73F8-46D1-B17A-E5613028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9C3-A2C5-474A-BA1B-B6C08DB7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726-A71C-49FD-B807-7E733013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EB0-4470-43DF-A31D-2C413A88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DD7-DF99-49CA-B2F1-5D52EC38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837-9A73-4AC1-B873-D2F11E3C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829-8D6C-4D5A-B1FD-094FC62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EAD-8C68-458B-98C5-5503FB8E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5FA-4DBB-4F85-83FA-565C3389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8DDA8-DAB3-4D31-8175-D34E2A4377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