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78010"/>
        <c:axId val="47908938"/>
      </c:barChart>
      <c:catAx>
        <c:axId val="42478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08938"/>
        <c:crosses val="autoZero"/>
        <c:auto val="1"/>
        <c:lblAlgn val="ctr"/>
        <c:lblOffset val="100"/>
        <c:noMultiLvlLbl val="0"/>
      </c:catAx>
      <c:valAx>
        <c:axId val="47908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78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B47-311F-4213-B762-412559BA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934-E29E-4240-8A07-BDF23522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411-2679-46C0-8908-A7D639FE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38B-A2B6-4D6E-A283-95A92DCC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28B-EC7F-43C4-9ADF-F0EADEE4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3AC-544C-411A-92D6-B71DCEF1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139-75DD-4385-BCEA-A5535F54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813-FA46-4EBE-9248-3A351FD5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F3E-E4A9-4E80-8E92-DE44C32A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779-EA73-4A40-A52A-E2A1D25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662-FB35-4CB1-824C-E6772C07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00B-348D-403F-B4C2-965E45F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8BB38-167D-4582-A3D4-4278EFECCF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